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AF7-7C4D-4918-9A6B-36F763AB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FA1-FEEE-4C01-A41A-3A8E7C58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105-A48F-4C29-A59E-684ED5D4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B19-217D-4798-8094-6CC10717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7133-F2DF-4D6F-895F-65A62FE1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2B1B-64B8-40DA-8251-5CF3A59C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4F09-19A3-4A73-B644-4835802D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F3CA-5D4D-41CB-973F-7EF57108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1BA3-EC29-4779-8F29-368A4EC0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E406-60D4-4DB5-AC84-68CF62C6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24E3-97A0-4C33-AF4B-863958C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D73-3BEF-40D4-AD88-40AE0F26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E58C-DD46-42D2-B262-2FBD5907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7368-30BD-4EB3-9047-92B0936D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3DD7-FDEB-4C98-93C7-3E2357A3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052F-148E-454A-9976-24AB7F65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8EB7-574A-4998-AE9B-AE50BD59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783-2670-4D87-BC48-FD8E4D1B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E80-B42B-4377-8C3D-68453B9D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B6E-5340-4A39-9E21-EDFF0F97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C16-928D-46D7-A6B7-3F8FC644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C17-4A27-4C8F-9C8B-CC8CC4D2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4C4-FB30-450D-BFE3-21B68224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293-5397-4E6D-95B0-78C98987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c9d9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f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7555-5F33-4D22-A0A0-6E07E567D7E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c9d9e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A9A8-5C30-48B8-8B89-442A9E2A2D9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Multi Indicator Cluster Survey (MICS) 2005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ember 30, 2007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6095880"/>
            <a:ext cx="1533240" cy="37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315200" y="6072120"/>
            <a:ext cx="150984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4114800" y="5791320"/>
          <a:ext cx="109692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5791320"/>
                    <a:ext cx="1096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ousehold Questionnair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dules includ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usehold Information Pan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usehold Lis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ild Labou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phaned and Vulnerable Childr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ter and Sani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ild Disciplin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ild Disabil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lt Iodiz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omen’s Questionnair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dules Included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sic Characteristic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hild Morta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tanus Toxoid immunis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ernal and Newborn Healt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rriage/Common-law un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ttitudes Toward Domestic Viol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V/AI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Questionnair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dules included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ormation Pan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irth Registration and Early Learn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hild Develop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eastfeed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ccurrence and treatment of Illn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muniz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ample Sele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523880"/>
          <a:ext cx="94489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448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raining of Field Staff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ining includ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viewing techniqu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questionnair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ck interviews between traine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viewing practice. These practice interviews were conducted in areas close to the training centres.  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inees were tested, and based on the test results, observation and participation in the training sessions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83 persons were offered employment on the project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ield Work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eld work began October 10, 200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3 Superviso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70 Interviewers and Field Edito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blems during field work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verse weath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olence in some sections of Kingston, St. Andrew and St. Catherine.  Interviewers were forced to leave some ED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acant dwelling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per income communities that have gated communities and to which access was not granted by security personnel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ata Process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a was manually edited and keyed into the computer using the CSPro softwa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7 Data Entry Operator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 Data Entry Superviso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puter edits were do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cess lasted from November 2005 – March 200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ata analysi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one in SPSS ver. 14.0 by STATI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ing syntaxes prepared by UNICEF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igorous proc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Narrow"/>
              </a:rPr>
              <a:t>Response Rat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97534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753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hat Is MICS ?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ple Indicator Cluster Survey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usehold survey developed by UNICEF in 1990’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t assists countries in filling data gaps for monitoring human development, especially the situation of  women and children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2901600"/>
            <a:ext cx="73152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Narrow"/>
              </a:rPr>
              <a:t>Child mortalit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he infant mortality rate is the probability of dying before the first birthday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he under-five mortality rate is the probability of dying before the fifth birthday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ased on an indirect estimation technique known as the Brass method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Narrow"/>
              </a:rPr>
              <a:t>Child mortalit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fant mortality – 26 per 100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der 5 mortality – 31 per 100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rtality higher among children of women with low levels of edu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04920" y="577800"/>
          <a:ext cx="8839080" cy="61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77800"/>
                    <a:ext cx="88390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Breastfeed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43000" y="2362320"/>
          <a:ext cx="6934320" cy="3948120"/>
        </p:xfrm>
        <a:graphic>
          <a:graphicData uri="http://schemas.openxmlformats.org/drawingml/2006/table">
            <a:tbl>
              <a:tblPr/>
              <a:tblGrid>
                <a:gridCol w="4800600"/>
                <a:gridCol w="213372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clusive breastfeeding 0-5m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plementary feeding 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-9mth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.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inued breastfeeding  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15m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inued breastfeeding 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-23mth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6324480"/>
            <a:ext cx="1533600" cy="37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Breastfeeding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Birth Weigh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jority of birth occur in hospital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97% of babies were weighed at bir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prox 12% weighed less than 2500 g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mmuniz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Overall, more than 70 % of children had immunization cards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f the child did not have a card, the mother was asked to recall whether or not the child had received   BCG, Polio, DPT or measles vaccination 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304920"/>
          <a:ext cx="8915400" cy="658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915400" cy="65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hat is MICS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ny  countries were involved in each round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ing  common questionnaire modul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acilitates the production of comparable estimates of indicator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 uses international definitions of indicator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HEALT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uring the two weeks preceding the surve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2.4% had diarrhoe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6.5% had symptoms of pneumon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75% were taken to an appropriate provide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moxil was the antibiotic of choic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23% of women knew of the two danger signs of pneumoni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ater and Sanit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se of improved drinking water sour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se of adequate water treatment metho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ime to source of drinking wa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erson collecting drinking wa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Sanitation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se of improved sanitation facilit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anitary disposal of child’s fae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ater and Sanit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 Narrow"/>
              </a:rPr>
              <a:t>Use of improved drinking water  sources - 93.5%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97 % in urban are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88 % in rural area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 Narrow"/>
              </a:rPr>
              <a:t>53% used water treatment metho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ater and Sanitation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219320"/>
          <a:ext cx="89154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9154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ater and Sanitation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97% live in households using improved sanitation facil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lush toilets most common in urban are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it latrines most common in rural area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ater and Sanitation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36% of children diapers were properly dispose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6% thrown directly into garbag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eproductive Healt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91% of women received antenatal care from skilled personnel at least once during pregnanc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octor was the main provider (57.8%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n Nurse / midwife (32.7%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ver 95% of women had blood and urine samples taken during pregnanc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eproductive Health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97% of births were delivered by skill personn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56% assisted by nurse / midwif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41% assisted by docto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Developmen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6% of children under 5 had an adult household member who engaged in activities that promote learning and school readin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athers involvement was only 41%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1% of children were living without their fath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Development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3% of children age 0 – 59 months were left in care of other children under 10 y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% of children were left alo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hat is MICS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maica  is among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191 signatories to the Millennium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velopment Goals (MDG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189 member states who adopted the Plan of Action of A World Fit For Children.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e-school Attend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6% of children attended pre-schoo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9% urban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1% from rural are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94% of children 48 - 59 months attended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e-schoo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ducation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97.4% attended primary schoo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ttendance increased with age from 89.7% among children 6 years to 99.3% among 11 year o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ansition to secondary school almost univers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ducation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t the secondary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ttendance was lower among boys (89 %) than among girls (93 %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Higher levels of attendance among children whose mothers have a higher level of education.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ducation - Distance from schoo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 97% lived less than 5 mi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68% lived within a mi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ary  86% lived less than 5 mi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42% lived within a mi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1 % of rural lived within one mil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4 % in KMA lived within one m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Prote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rth Regist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9% of children under 5 were register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f those not registered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7% owed hospital fe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32% said too costly to regis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Labour - Defini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ges 5-11: at least one hour of economic work or 28 hours of domestic work per week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ges 12-14: at least 14 hours of economic work or 28 hours of domestic work per week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Labou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hildren 5 -11 yrs -   7.9%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hildren 12-14 yrs  - 2.3%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re males -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7 % than females - 5 %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Discip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sychological aggress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-If child was shouted, yelled or screamed at and/or called dumb, lazy or other such na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inor physical punishment 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hild was shaken, spanked, hit or slapped on bottom with bare hand and/or hit anywhere on the body with a hard instrument and/or hit/slapped on arm, leg or ha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evere physical punishmen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- If child is hit/slapped on the face, head or ears and/or beat with an instrument over and over as hard as one could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Discip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87% of children 2 – 14 were subjected to at least one form of psychological or physical punish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8% were subjected to severe physical punishmen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omen with higher educational levels used non-violent discipline and less to psychological and minor physical punishment than women with lower levels education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Discipline (cont.d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86000" y="1981080"/>
          <a:ext cx="5416560" cy="4114800"/>
        </p:xfrm>
        <a:graphic>
          <a:graphicData uri="http://schemas.openxmlformats.org/drawingml/2006/table">
            <a:tbl>
              <a:tblPr/>
              <a:tblGrid>
                <a:gridCol w="1828800"/>
                <a:gridCol w="1758960"/>
                <a:gridCol w="1828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v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em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hat is MICS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und 1  - 1995 No Jama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und  2  - 2000 Jamaica but no official repo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und  3  -  2005 Jamaica and here we are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omestic Violenc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6.1% of women felt that a husband or male partner was justified in beating his wife for at least one reas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most popular reason was if the woman neglected her childr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hild Disability - 2-9 year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st Common Disabilities Reported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t understanding instructions - 4.9%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ull or slow - 4.7%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t Speaking - 3.9%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55404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 Narrow"/>
              </a:rPr>
              <a:t>HIV/AIDS, and orphaned and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 Narrow"/>
              </a:rPr>
              <a:t>vulnerable children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69% of women knew  three main ways of preventing HIV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83% knew about one faithful partn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89% knew about using a condo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87% knew about abstain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V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Narrow"/>
              </a:rPr>
              <a:t>HIV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uring Antenatal Car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3% received information about HIV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90% have tested for HIV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4% have received resul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lth status of women and children goo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ed to improve vital registration especially for infant and young child death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ng children need to be protected from child labour whether inside or outside the ho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ed to decrease the levels of social inequality as measured by the educational levels of women as these influence attitudes and behaviours e.g. child discipline, domestic viole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provide up-to-date information for assessing the situation of children and women in Jamaica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furnish data for monitoring progress toward goals established by the MDG, A World Fit For Children (WFFC), and other internationally agreed upon goals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contribute to the improvement of data and monitoring systems in Jamaic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urvey Managemen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Steering Committee was formed with representatives from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UNICEF  UNFPA   UNAIDS  STATI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UNDP  PAHO PIOJ   ECC  Cabinet Offic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MOH  MOEY SALISES  CCDC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urvey Management cont’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rvey coordination and implementation was done by STATIN through the Special Projects and Field Services Division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Questionnai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survey instrument  consisted of three questionnair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usehol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oman (15-49 yr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hild (0-4 yrs)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22:27:28Z</dcterms:created>
  <dc:creator>ejohansson</dc:creator>
  <dc:description/>
  <dc:language>en-US</dc:language>
  <cp:lastModifiedBy>klewis</cp:lastModifiedBy>
  <dcterms:modified xsi:type="dcterms:W3CDTF">2008-03-26T19:19:03Z</dcterms:modified>
  <cp:revision>345</cp:revision>
  <dc:subject/>
  <dc:title>Salt Iodization</dc:title>
</cp:coreProperties>
</file>