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E69-9915-4E17-BD22-F8398B64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DC5-0BF9-4326-B319-E6E04C7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B6D-9B01-407C-B65E-9A390D87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D76-21D2-4974-BCBC-82AA7D11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AA9-831F-43EB-9E8B-E74B3DA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C55-0E76-4DF6-B844-5413E025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D95-AE0D-4C34-B98F-0BCA351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06C-BED4-43C5-AD1B-5388207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7B7-2A86-4A00-9C7A-74AF1AE8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78B-675C-46AF-B1CD-330D853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DA4-0AD3-44C3-8ABD-7B9FCF3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A69-8392-4F5D-A216-F56FE91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894-162B-4E39-ACC0-EB63CADC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CS 2006 KEY FINDINGS on Child Health and Maternal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Image Preview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1619280" y="515772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uel Bosomp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stry of Health MICS Foc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1763640" cy="620640"/>
          </a:xfrm>
          <a:prstGeom prst="rect">
            <a:avLst/>
          </a:prstGeom>
          <a:ln w="9360">
            <a:solidFill>
              <a:srgbClr val="d3d3d3"/>
            </a:solidFill>
            <a:miter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162840"/>
            <a:ext cx="828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most one in five children under age five in Ghana is underweight (18 perc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ly a quarter of children (22 percent) are stunted or too short for their age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percent are wasted or too thin for their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0" y="260280"/>
            <a:ext cx="914400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any Ghanaian children are malnourished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lnourishment peaks at age 12-23 month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uld be attributed to poor feeding practices that lead to inadequate food in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b0f0"/>
                </a:solidFill>
                <a:latin typeface="Arial"/>
              </a:rPr>
              <a:t>Expected…weaning period … exposed to contamination in water, food, and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0" y="260280"/>
            <a:ext cx="914400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nourishment vs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7" descr=""/>
          <p:cNvPicPr/>
          <p:nvPr/>
        </p:nvPicPr>
        <p:blipFill>
          <a:blip r:embed="rId1"/>
          <a:stretch/>
        </p:blipFill>
        <p:spPr>
          <a:xfrm>
            <a:off x="3565440" y="1066680"/>
            <a:ext cx="5133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at the earliest ages, many children are receiving liquids or foods other than breast mil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By the end of the sixth month, the percentage of children exclusively breastfed is below 12 perc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0" y="260280"/>
            <a:ext cx="914400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ant Feeding Patterns by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3575160" y="1214280"/>
          <a:ext cx="5568840" cy="50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1214280"/>
                    <a:ext cx="5568840" cy="50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/>
          <p:cNvSpPr/>
          <p:nvPr/>
        </p:nvSpPr>
        <p:spPr>
          <a:xfrm>
            <a:off x="0" y="404640"/>
            <a:ext cx="9144000" cy="648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equities in underweight 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7848360" cy="47480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5"/>
          <p:cNvSpPr/>
          <p:nvPr/>
        </p:nvSpPr>
        <p:spPr>
          <a:xfrm>
            <a:off x="5219640" y="2000160"/>
            <a:ext cx="2808360" cy="997200"/>
          </a:xfrm>
          <a:prstGeom prst="wedgeEllipseCallout">
            <a:avLst>
              <a:gd name="adj1" fmla="val -67805"/>
              <a:gd name="adj2" fmla="val 96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urban-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equities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4500720" y="292428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48"/>
                </a:lnTo>
                <a:cubicBezTo>
                  <a:pt x="10800" y="9648"/>
                  <a:pt x="16200" y="10548"/>
                  <a:pt x="21600" y="10548"/>
                </a:cubicBezTo>
                <a:cubicBezTo>
                  <a:pt x="16200" y="10548"/>
                  <a:pt x="10800" y="11448"/>
                  <a:pt x="10800" y="1234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>
            <a:off x="2987640" y="1916280"/>
            <a:ext cx="432000" cy="2736720"/>
          </a:xfrm>
          <a:custGeom>
            <a:avLst/>
            <a:gdLst>
              <a:gd name="textAreaLeft" fmla="*/ 0 w 432000"/>
              <a:gd name="textAreaRight" fmla="*/ 155880 w 432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3132000" y="1214280"/>
            <a:ext cx="2952720" cy="919440"/>
          </a:xfrm>
          <a:prstGeom prst="wedgeEllipseCallout">
            <a:avLst>
              <a:gd name="adj1" fmla="val -41291"/>
              <a:gd name="adj2" fmla="val 156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regional inequities ex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4500720" y="6669000"/>
            <a:ext cx="10080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508720" y="645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2071800"/>
          <a:ext cx="9144000" cy="42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71800"/>
                    <a:ext cx="91440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AutoShape 5"/>
          <p:cNvSpPr/>
          <p:nvPr/>
        </p:nvSpPr>
        <p:spPr>
          <a:xfrm>
            <a:off x="0" y="189000"/>
            <a:ext cx="5715000" cy="50328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n Malnutrition towards the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042920" y="3429000"/>
            <a:ext cx="51721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ana Is On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onsolidate gai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iley Face 4"/>
          <p:cNvSpPr/>
          <p:nvPr/>
        </p:nvSpPr>
        <p:spPr>
          <a:xfrm>
            <a:off x="6429240" y="0"/>
            <a:ext cx="2143440" cy="18572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we on Tr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071720" y="271476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il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"/>
          <p:cNvSpPr/>
          <p:nvPr/>
        </p:nvSpPr>
        <p:spPr>
          <a:xfrm>
            <a:off x="0" y="214200"/>
            <a:ext cx="914400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428760" y="1500120"/>
          <a:ext cx="828648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00120"/>
                    <a:ext cx="828648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/>
          <p:cNvSpPr/>
          <p:nvPr/>
        </p:nvSpPr>
        <p:spPr>
          <a:xfrm>
            <a:off x="0" y="214200"/>
            <a:ext cx="914400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0040" y="1415880"/>
            <a:ext cx="82152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285920" y="264312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productive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0" y="214200"/>
            <a:ext cx="914400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illed Supervise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42960" y="1424160"/>
            <a:ext cx="80010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0" y="214200"/>
            <a:ext cx="9144000" cy="6937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55640" y="3786120"/>
            <a:ext cx="79200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Regenerative Health and Nutrition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14240" y="1357200"/>
            <a:ext cx="80010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inter-sectoral Action – Poverty reduction, Nutrition, Education, Wa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itation, Roads, and 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5640" y="5013360"/>
            <a:ext cx="7920000" cy="77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ed actions at regions pulling down the country and urban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14240" y="2500200"/>
            <a:ext cx="792972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-up 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MICS in 200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line for next health strategy 2007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ade since last 2003 GDHS in service outputs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not expecting changes in mort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ICS to confirm GDHS mortality fig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059280" y="1989000"/>
            <a:ext cx="3313080" cy="2448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s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900000" y="4221000"/>
            <a:ext cx="2735280" cy="263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wer Child 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5651640" y="4292640"/>
            <a:ext cx="2665440" cy="2565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wer Child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d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635280" y="5589720"/>
            <a:ext cx="2016360" cy="0"/>
          </a:xfrm>
          <a:prstGeom prst="line">
            <a:avLst/>
          </a:prstGeom>
          <a:ln w="414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1197000"/>
            <a:ext cx="316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er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79280" y="189000"/>
            <a:ext cx="8785440" cy="431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y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 flipV="1">
            <a:off x="5795640" y="2060640"/>
            <a:ext cx="1368360" cy="2232000"/>
          </a:xfrm>
          <a:prstGeom prst="line">
            <a:avLst/>
          </a:prstGeom>
          <a:ln w="414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2268360" y="1989000"/>
            <a:ext cx="1656000" cy="2232000"/>
          </a:xfrm>
          <a:prstGeom prst="line">
            <a:avLst/>
          </a:prstGeom>
          <a:ln w="414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39640" y="1125360"/>
            <a:ext cx="7848720" cy="573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sustained investment in nutrition is highly likely to 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to stronger economy in the long-term because there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e intellectually productive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ults who survive malnutrition as children are less physically and intellectually productive and suffer from high levels of chronic illness and disability”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ICEF (Various year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5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Did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der-5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85920" y="1033560"/>
            <a:ext cx="6929280" cy="5467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0" y="260280"/>
            <a:ext cx="914400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-5 Mortality vs Background X’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357720"/>
            <a:ext cx="9144000" cy="12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oking toward the next 7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ich regions are likely to experience the greatest impro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850104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0" y="333360"/>
            <a:ext cx="6143760" cy="574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ld mortality is an indicator of developmen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835280" y="3214800"/>
            <a:ext cx="4967280" cy="164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ikely to meet the MDGs at current 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iley Face 5"/>
          <p:cNvSpPr/>
          <p:nvPr/>
        </p:nvSpPr>
        <p:spPr>
          <a:xfrm>
            <a:off x="6500880" y="0"/>
            <a:ext cx="2214360" cy="1643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r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tritiona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16:24Z</dcterms:created>
  <dc:creator>Mr Samuel Bosomprah</dc:creator>
  <dc:description/>
  <dc:language>en-US</dc:language>
  <cp:lastModifiedBy>crasmussen</cp:lastModifiedBy>
  <dcterms:modified xsi:type="dcterms:W3CDTF">2008-08-08T08:51:45Z</dcterms:modified>
  <cp:revision>94</cp:revision>
  <dc:subject/>
  <dc:title>Maternal and Child Health:</dc:title>
</cp:coreProperties>
</file>