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BE2-4D8E-412D-AF4D-7931CC10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063-EECF-4547-A916-6FF5692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A06-9FB0-479F-8AB9-1DC02EAD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43A-5562-4D6F-8D48-A573E098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7851-1A4B-4BEC-B0C7-E24E56D8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3A63-3DE8-4865-A219-A798E7B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5BD8-BF8A-47EE-ADC4-35557BF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5735-649D-4250-9C8D-B1B0FCCA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9CBB-7362-4D5E-8FBD-48A1C10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56B-8FB2-41B6-A623-088B9C4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EAD-0170-4631-B710-497B13C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C30-A751-4D97-88CF-A043CF9C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204F-838C-4254-B354-9C92668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295-9A5D-40EE-BF5D-927D410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878-6EFA-4AC0-B72F-5CC854E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9057-353B-4563-B798-63A0B07D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8D73-A4F9-432A-9D9F-91A0D713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22E9-9437-4B67-96E5-FAA88454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F5DD-9CB2-4883-A38D-8103A050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C7B7-398B-470A-B599-2112ACF0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8B11-112D-4602-8446-56FCDAA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DD7B-0389-4FC8-AEEC-DA99841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23F-1E92-44B5-8517-AF320144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3DC9-FA79-4D14-9AE3-44A5233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4367-328A-4F42-ADDF-EEBFD26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39CF-1E99-4A6F-86F2-A7D3E956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5210-2D8E-464F-8693-CC28165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F136-A4B3-4888-9736-1C562FE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DE1D-175C-4619-AC83-8F2CAC08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1CBC-3DE9-42B8-8E3E-AA0642D5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231A-8209-455B-9379-077359AB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7B65-EC3B-4AD3-842A-C3AD162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5973-94BF-4D2B-A803-8D0CFF4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12B-4667-4D51-BFD6-94A2CEF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6315-728D-42BE-B255-DE7EC76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6E5A-E537-42D5-9C42-C28C0AF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785-EB9D-4CF2-A4CA-76A44831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9428-A962-4868-9351-00A5DD1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1B8C-6FE4-497E-A19C-62226AA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2D04-42A3-444E-9A02-C807547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E98D-CDAE-4E04-8334-212396C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59D7-5BAA-472C-AB90-B18C7B8A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0BB79-CE32-4DE1-B77B-4B00ED64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015-C2D7-47A6-B625-E9F5A3F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138-6CF6-438B-9033-59EEC4C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0CF-EEE1-46FC-B7FC-7BF426C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D8D-D910-470A-8C57-A693376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E88-0EE1-4B2F-AB24-55C22D1D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620-CD0B-4BBB-9EEE-53D4DB96D3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902C-F237-4D8E-83AE-AE07C7CE077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49FC-3127-4149-8D9D-023D21CF31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DEC4-DA76-4E89-ADC5-372F6F166CA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182520" y="1365120"/>
            <a:ext cx="854064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MAIN RESULT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Presented by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nstantia"/>
              </a:rPr>
              <a:t>Faustina frempong-ainguah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ead of househol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2"/>
          <a:stretch/>
        </p:blipFill>
        <p:spPr>
          <a:xfrm>
            <a:off x="281160" y="3206880"/>
            <a:ext cx="4046400" cy="3376440"/>
          </a:xfrm>
          <a:prstGeom prst="rect">
            <a:avLst/>
          </a:prstGeom>
          <a:ln w="0">
            <a:noFill/>
          </a:ln>
        </p:spPr>
      </p:pic>
      <p:pic>
        <p:nvPicPr>
          <p:cNvPr id="216" name="Content Placeholder 7" descr=""/>
          <p:cNvPicPr/>
          <p:nvPr/>
        </p:nvPicPr>
        <p:blipFill>
          <a:blip r:embed="rId3"/>
          <a:stretch/>
        </p:blipFill>
        <p:spPr>
          <a:xfrm>
            <a:off x="4645080" y="1914480"/>
            <a:ext cx="4048200" cy="4443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45007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omen head 29% of Ghanaian househol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sistent with the results from the 2003 CWIQ survey, which puts women at 29.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is low percentage may be influenced by our prevailing kinship and inheritance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Educational Attainment by sex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617b"/>
                </a:solidFill>
                <a:latin typeface="Constantia"/>
              </a:rPr>
              <a:t>M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617b"/>
                </a:solidFill>
                <a:latin typeface="Constantia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Content Placeholder 8" descr=""/>
          <p:cNvPicPr/>
          <p:nvPr/>
        </p:nvPicPr>
        <p:blipFill>
          <a:blip r:embed="rId2"/>
          <a:stretch/>
        </p:blipFill>
        <p:spPr>
          <a:xfrm>
            <a:off x="450720" y="2511360"/>
            <a:ext cx="4054680" cy="385308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3" descr=""/>
          <p:cNvPicPr/>
          <p:nvPr/>
        </p:nvPicPr>
        <p:blipFill>
          <a:blip r:embed="rId3"/>
          <a:stretch/>
        </p:blipFill>
        <p:spPr>
          <a:xfrm>
            <a:off x="4638600" y="2511360"/>
            <a:ext cx="405468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ul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760" y="2000160"/>
          <a:ext cx="4214520" cy="407196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n-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asure: #women or men aged 15-24  that are able to read short simple sentence /all women or men aged 15-24 survey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men are less likely to be able to read (68% compared to 75%) than men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rong relationship between one’s socio-economic status and literacy le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W7 Wealth percent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dul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Content Placeholder 5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4048200" cy="4443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929120" y="1920960"/>
            <a:ext cx="37576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ercentage of women and men aged 15-49 years that are liter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73% of men 15-49 are literate as compared to 55% of females of the same age grou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ype of toilet faci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vailability of toilet facilities in households ensures more hygienic means of human waste disposa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Inadequate disposal of human excreta and personal hygiene can affect the health of the population especially children under five year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survey results show that 61 percent  of the population have access to improved sanitary facil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anitary differentials at the regional level are significan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ajority of the population in the three northern regions have no toilet facil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ype of Toilet facility by place of residenc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Content Placeholder 4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4617b"/>
                </a:solidFill>
                <a:latin typeface="Calibri"/>
              </a:rPr>
              <a:t>Percentage distribution of household population using improved sanitary means of excreta disposal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odized salt consum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icronutrients are essential for the metabolic processes in the body and plays a major role in the nutrition and health of an individua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sorders caused by dietary iodine deficiency include goitre, impaired mental function, retarded mental and physical developm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results show that only one-third of households in Ghana consume adequately iodized sal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5" descr=""/>
          <p:cNvPicPr/>
          <p:nvPr/>
        </p:nvPicPr>
        <p:blipFill>
          <a:blip r:embed="rId2"/>
          <a:stretch/>
        </p:blipFill>
        <p:spPr>
          <a:xfrm>
            <a:off x="4645080" y="1914480"/>
            <a:ext cx="4048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Iodized salt consump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ource of drin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urvey imple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006 M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cond round in a series of national level population and health survey conducted in Ghan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urvey was conducted by the GSS in collaboration with the Ministry of health, UNICEF and Macro Internat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2006 MICS was designed to provide estimates on a large number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 indic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imed at improving the health conditions for women, men and childr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3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ample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,30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ouseholds was selected for Ghana as a whole, representing urban and rural areas, as well as the 10 administrative reg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st of EAs from the GLSS V served as a frame for the MICS samp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660 EA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{-281 urban and 379 rural}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ICS 2006 used a two-staged stratified sample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tage on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300 EAs( 124 urban, 176 rural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stribution of EAs not proportional to the 2000PHC - over sampling for Northern, Upper East and Upper West regio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Sample desig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Listing of structures  and households in all E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Second stag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Systematic sampling of households from the listed EA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fter eliminating from the list households previously selected for GLSS (20 per EA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 Avoid respondent fatigu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Possible high rates of refusa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-Conducted concurrentl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Twenty households per EA were selecte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25 per EA for rural EAs in Northern, Upper East and Upper Wes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All women aged 15-49 and children less than 60 months in these selected households were eligible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Males in every selected third household aged 15-49 were also eligible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This is different from DHS whereby males aged 15-59 are eligible  for interview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Questionnai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 questionnaires were used for the 2006 MICS: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sehold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’s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’s and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- five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99"/>
              </a:spcBef>
              <a:buClr>
                <a:srgbClr val="009dd9"/>
              </a:buClr>
              <a:buSzPct val="70000"/>
              <a:buFont typeface="Times New Roman"/>
              <a:buChar char="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adapted questionnaires were modified to suit the Ghanaian context and pretested in June 2006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raining and Field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0 peop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articipated in the survey training, to serve as supervisors, editors, interviewers, and data entry cle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trainees participated in comprehensive interviewer training, including taking measurements of height and weigh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wards the end of training period, participants spent 3 days conducting interviews in 16 EAs ( 8 urban, 8 rural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ne tea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ere formed for data collection, each consisting of a supervisor, editor, four interviewers and a driv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eldwork took place over three months betwee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gust and November 200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Data Process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of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an soon after fieldwork (3 weeks) commenced, as completed questionnaires were sent to MICS secretariat at GSS, Acc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ly trained GSS personnel, inclu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data entry cler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ntered in the data twice, and monitored the quality of the data collected.4 secondary editing personnel to perform internal consistency check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aptured using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SPr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ftwa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data processing allowed for feedback to teams to prevent problem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Results of the household and individual interview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643040"/>
            <a:ext cx="5829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Selec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Occupi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Households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Wom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Women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M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en interview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ligible children under fi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Mother/ Caretaker interview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Constantia"/>
              </a:rPr>
              <a:t>Child response rate (%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0" y="1643040"/>
            <a:ext cx="1828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30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26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5,9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4.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6,24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5,89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4.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1,90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1,74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1.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3,54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3,46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97.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Households and Respondents Characteristic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ackground characteristics of households and respon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9:14:59Z</dcterms:created>
  <dc:creator>tynainguah</dc:creator>
  <dc:description/>
  <dc:language>en-US</dc:language>
  <cp:lastModifiedBy>crasmussen</cp:lastModifiedBy>
  <dcterms:modified xsi:type="dcterms:W3CDTF">2008-07-23T11:23:43Z</dcterms:modified>
  <cp:revision>74</cp:revision>
  <dc:subject/>
  <dc:title>MULTIPLE INDICATOR CLUSTER SURVEY(MICS 2006)</dc:title>
</cp:coreProperties>
</file>