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7D14-763E-4013-9EBB-76730ACDA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CCFE-1935-41CD-B1FF-F266E8B94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E578-6856-4CBF-8378-63EDD0520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7879-87EB-491C-BDA0-9F8CD8456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F9779-6891-4F6C-ABDC-049802A8E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3D2DD-C40D-4523-98D8-958620B8D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5FF63-2EB1-4904-ACDE-F02F97625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A7C9A-15A2-4751-B1F9-5EDB81D15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8ACBE-412E-4587-9B90-5E600FBE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8745E-71AF-4E4F-BC91-46649E1FC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44398-6E96-4D51-A75A-A863B198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81E6-E993-4F21-A6F7-DEC4B4ACC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5F3F3-F91F-4834-90C3-7145E153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97959-0C1C-4A06-AFDC-234D5029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B93A2-C0E3-4DC3-BE99-A45DD40E6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79618-6AA7-4B25-8806-D9003BCB2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67543-F467-431D-B7FE-FB9F1248B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29187-1341-4868-9A39-35D3BAFCA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F561D-0415-4FED-B55C-7CC5F463A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D7697-424E-45EC-93A6-FB0AA7958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14210-B058-4618-8379-C4A241F7D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DC6A5-E1AF-475C-BA98-6407A85B3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3655-2EF7-4B07-A35A-8DC26F059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F1C3F-0CAB-4DAE-B3B2-C57D4D6D7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7BE71-DA43-408F-BDC0-6EC99A77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E9CEC-AF1B-45EE-AB7D-712F573E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16568-49C7-486C-AFE5-4B0BAAC7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0D710-2F71-475E-88EF-5C7C83B2F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851D4-FFEE-47BB-9EF8-05E947101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9F98C-65FE-48C4-84CA-79BFD90BE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9A53D-4826-4B12-B06E-EB1120B0F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E95DA-6D2F-4233-B0D5-206FD5A93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F46E9-CBD2-4304-9DA4-1E9B8BA07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B7B2-F7E6-455F-AC0D-EEBB4C326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4BC40-1542-43C8-B367-0AC4AAA26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6BFD6-8993-4120-9D93-B4223EB0D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E896C-D631-4945-988D-7B89BDFF4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22B36-5F93-43A9-949D-9DDA1D99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3BE5F-2C85-4B18-9FEC-7ABCCD7D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8C4B3-DBA6-48B0-8E60-EFF2D373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D155E-5596-44FC-9E7F-C675B81E4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4BF71-21A8-4A34-9052-6EA5AE8DA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AED2B-2DB2-43D6-9BEE-9C1A65596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46F1-34F0-4AB6-A87A-CBE08B9C8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BB65-1008-497C-B755-25CD42AD0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D0F6-73A2-4F61-B878-2C07958D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6109-8022-47FE-A155-4984418D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F3B0-B85F-4502-9F4E-0663B91A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779F8-602E-46E8-B1BB-746AD1BF984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81D7A-571A-42B1-B0A2-3F943899B2C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2556A-0332-4307-A2A2-33357DF89B2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ADA5C-8337-49AA-9A6D-AA02889670E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2"/>
          <a:stretch/>
        </p:blipFill>
        <p:spPr>
          <a:xfrm>
            <a:off x="182520" y="1365120"/>
            <a:ext cx="8540640" cy="18957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nstantia"/>
              </a:rPr>
              <a:t>MAIN RESULTS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nstantia"/>
              </a:rPr>
              <a:t>Presented by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nstantia"/>
              </a:rPr>
              <a:t>Faustina frempong-ainguah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Head of household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5" name="Content Placeholder 3" descr=""/>
          <p:cNvPicPr/>
          <p:nvPr/>
        </p:nvPicPr>
        <p:blipFill>
          <a:blip r:embed="rId2"/>
          <a:stretch/>
        </p:blipFill>
        <p:spPr>
          <a:xfrm>
            <a:off x="281160" y="3206880"/>
            <a:ext cx="4046400" cy="3376440"/>
          </a:xfrm>
          <a:prstGeom prst="rect">
            <a:avLst/>
          </a:prstGeom>
          <a:ln w="0">
            <a:noFill/>
          </a:ln>
        </p:spPr>
      </p:pic>
      <p:pic>
        <p:nvPicPr>
          <p:cNvPr id="216" name="Content Placeholder 7" descr=""/>
          <p:cNvPicPr/>
          <p:nvPr/>
        </p:nvPicPr>
        <p:blipFill>
          <a:blip r:embed="rId3"/>
          <a:stretch/>
        </p:blipFill>
        <p:spPr>
          <a:xfrm>
            <a:off x="4645080" y="1914480"/>
            <a:ext cx="4048200" cy="44434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450072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Women head 29% of Ghanaian household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Consistent with the results from the 2003 CWIQ survey, which puts women at 29.0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his low percentage may be influenced by our prevailing kinship and inheritance syste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Educational Attainment by sex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4617b"/>
                </a:solidFill>
                <a:latin typeface="Constantia"/>
              </a:rPr>
              <a:t>Ma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4617b"/>
                </a:solidFill>
                <a:latin typeface="Constantia"/>
              </a:rPr>
              <a:t>Fema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Content Placeholder 8" descr=""/>
          <p:cNvPicPr/>
          <p:nvPr/>
        </p:nvPicPr>
        <p:blipFill>
          <a:blip r:embed="rId2"/>
          <a:stretch/>
        </p:blipFill>
        <p:spPr>
          <a:xfrm>
            <a:off x="450720" y="2511360"/>
            <a:ext cx="4054680" cy="3853080"/>
          </a:xfrm>
          <a:prstGeom prst="rect">
            <a:avLst/>
          </a:prstGeom>
          <a:ln w="0">
            <a:noFill/>
          </a:ln>
        </p:spPr>
      </p:pic>
      <p:pic>
        <p:nvPicPr>
          <p:cNvPr id="222" name="Content Placeholder 3" descr=""/>
          <p:cNvPicPr/>
          <p:nvPr/>
        </p:nvPicPr>
        <p:blipFill>
          <a:blip r:embed="rId3"/>
          <a:stretch/>
        </p:blipFill>
        <p:spPr>
          <a:xfrm>
            <a:off x="4638600" y="2511360"/>
            <a:ext cx="4054680" cy="38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Adult Literac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428760" y="2000160"/>
          <a:ext cx="4214520" cy="4071960"/>
        </p:xfrm>
        <a:graphic>
          <a:graphicData uri="http://schemas.openxmlformats.org/drawingml/2006/table">
            <a:tbl>
              <a:tblPr/>
              <a:tblGrid>
                <a:gridCol w="1404720"/>
                <a:gridCol w="1405080"/>
                <a:gridCol w="140472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Fe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58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oor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8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eco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dd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4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our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8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on-po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7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2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5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7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sp>
        <p:nvSpPr>
          <p:cNvPr id="225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Measure: #women or men aged 15-24  that are able to read short simple sentence /all women or men aged 15-24 survey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omen are less likely to be able to read (68% compared to 75%) than men 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Strong relationship between one’s socio-economic status and literacy leve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2W7 Wealth percent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Adult Literac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7" name="Content Placeholder 5" descr=""/>
          <p:cNvPicPr/>
          <p:nvPr/>
        </p:nvPicPr>
        <p:blipFill>
          <a:blip r:embed="rId2"/>
          <a:stretch/>
        </p:blipFill>
        <p:spPr>
          <a:xfrm>
            <a:off x="450720" y="1914480"/>
            <a:ext cx="4048200" cy="44434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4929120" y="1920960"/>
            <a:ext cx="37576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Percentage of women and men aged 15-49 years that are literat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73% of men 15-49 are literate as compared to 55% of females of the same age group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Type of toilet facilit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Availability of toilet facilities in households ensures more hygienic means of human waste disposal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Inadequate disposal of human excreta and personal hygiene can affect the health of the population especially children under five year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The survey results show that 61 percent  of the population have access to improved sanitary facilitie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Sanitary differentials at the regional level are significant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Majority of the population in the three northern regions have no toilet facilitie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Type of Toilet facility by place of residenc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2" name="Content Placeholder 4" descr=""/>
          <p:cNvPicPr/>
          <p:nvPr/>
        </p:nvPicPr>
        <p:blipFill>
          <a:blip r:embed="rId2"/>
          <a:stretch/>
        </p:blipFill>
        <p:spPr>
          <a:xfrm>
            <a:off x="450720" y="1925640"/>
            <a:ext cx="824256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4617b"/>
                </a:solidFill>
                <a:latin typeface="Calibri"/>
              </a:rPr>
              <a:t>Percentage distribution of household population using improved sanitary means of excreta disposal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4" name="Content Placeholder 3" descr=""/>
          <p:cNvPicPr/>
          <p:nvPr/>
        </p:nvPicPr>
        <p:blipFill>
          <a:blip r:embed="rId2"/>
          <a:stretch/>
        </p:blipFill>
        <p:spPr>
          <a:xfrm>
            <a:off x="450720" y="1925640"/>
            <a:ext cx="824256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Iodized salt consump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7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Micronutrients are essential for the metabolic processes in the body and plays a major role in the nutrition and health of an individual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Disorders caused by dietary iodine deficiency include goitre, impaired mental function, retarded mental and physical development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The results show that only one-third of households in Ghana consume adequately iodized salt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7" name="Content Placeholder 5" descr=""/>
          <p:cNvPicPr/>
          <p:nvPr/>
        </p:nvPicPr>
        <p:blipFill>
          <a:blip r:embed="rId2"/>
          <a:stretch/>
        </p:blipFill>
        <p:spPr>
          <a:xfrm>
            <a:off x="4645080" y="1914480"/>
            <a:ext cx="404820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Iodized salt consumption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9" name="Content Placeholder 3" descr=""/>
          <p:cNvPicPr/>
          <p:nvPr/>
        </p:nvPicPr>
        <p:blipFill>
          <a:blip r:embed="rId2"/>
          <a:stretch/>
        </p:blipFill>
        <p:spPr>
          <a:xfrm>
            <a:off x="450720" y="1925640"/>
            <a:ext cx="824256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Source of drink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1" name="Content Placeholder 3" descr=""/>
          <p:cNvPicPr/>
          <p:nvPr/>
        </p:nvPicPr>
        <p:blipFill>
          <a:blip r:embed="rId2"/>
          <a:stretch/>
        </p:blipFill>
        <p:spPr>
          <a:xfrm>
            <a:off x="450720" y="1925640"/>
            <a:ext cx="824256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Survey implement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006 MIC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the second round in a series of national level population and health survey conducted in Ghana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survey was conducted by the GSS in collaboration with the Ministry of health, UNICEF and Macro Internationa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2006 MICS was designed to provide estimates on a large number of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key indicator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imed at improving the health conditions for women, men and childre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Title 3" descr=""/>
          <p:cNvPicPr/>
          <p:nvPr/>
        </p:nvPicPr>
        <p:blipFill>
          <a:blip r:embed="rId2"/>
          <a:stretch/>
        </p:blipFill>
        <p:spPr>
          <a:xfrm>
            <a:off x="450720" y="701640"/>
            <a:ext cx="832176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ample design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7856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sample of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6,30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households was selected for Ghana as a whole, representing urban and rural areas, as well as the 10 administrative region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he list of EAs from the GLSS V served as a frame for the MICS sampl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660 EAs</a:t>
            </a: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{-281 urban and 379 rural}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MICS 2006 used a two-staged stratified sample desig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Stage one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300 EAs( 124 urban, 176 rural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Distribution of EAs not proportional to the 2000PHC - over sampling for Northern, Upper East and Upper West region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ample design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714320"/>
            <a:ext cx="8229600" cy="46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Listing of structures  and households in all EA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00000"/>
                </a:solidFill>
                <a:latin typeface="Constantia"/>
              </a:rPr>
              <a:t>Second stage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Systematic sampling of households from the listed EA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after eliminating from the list households previously selected for GLSS (20 per EA)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- Avoid respondent fatigue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-Possible high rates of refusal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-Conducted concurrently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00000"/>
                </a:solidFill>
                <a:latin typeface="Constantia"/>
              </a:rPr>
              <a:t>Twenty households per EA were selected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00000"/>
                </a:solidFill>
                <a:latin typeface="Constantia"/>
              </a:rPr>
              <a:t>25 per EA for rural EAs in Northern, Upper East and Upper West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All women aged 15-49 and children less than 60 months in these selected households were eligible for interview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Males in every selected third household aged 15-49 were also eligible for interview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This is different from DHS whereby males aged 15-59 are eligible  for interview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Questionnai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Times New Roman"/>
              <a:buChar char="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4 questionnaires were used for the 2006 MICS:                       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799"/>
              </a:spcBef>
              <a:buClr>
                <a:srgbClr val="009dd9"/>
              </a:buClr>
              <a:buSzPct val="70000"/>
              <a:buFont typeface="Times New Roman"/>
              <a:buChar char="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usehold,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799"/>
              </a:spcBef>
              <a:buClr>
                <a:srgbClr val="009dd9"/>
              </a:buClr>
              <a:buSzPct val="70000"/>
              <a:buFont typeface="Times New Roman"/>
              <a:buChar char="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men’s,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799"/>
              </a:spcBef>
              <a:buClr>
                <a:srgbClr val="009dd9"/>
              </a:buClr>
              <a:buSzPct val="70000"/>
              <a:buFont typeface="Times New Roman"/>
              <a:buChar char="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’s and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799"/>
              </a:spcBef>
              <a:buClr>
                <a:srgbClr val="009dd9"/>
              </a:buClr>
              <a:buSzPct val="70000"/>
              <a:buFont typeface="Times New Roman"/>
              <a:buChar char="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- five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799"/>
              </a:spcBef>
              <a:buClr>
                <a:srgbClr val="009dd9"/>
              </a:buClr>
              <a:buSzPct val="70000"/>
              <a:buFont typeface="Times New Roman"/>
              <a:buChar char="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The adapted questionnaires were modified to suit the Ghanaian context and pretested in June 2006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Training and Fieldwor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90 peopl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participated in the survey training, to serve as supervisors, editors, interviewers, and data entry clerk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ll trainees participated in comprehensive interviewer training, including taking measurements of height and weight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wards the end of training period, participants spent 3 days conducting interviews in 16 EAs ( 8 urban, 8 rural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ine team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ere formed for data collection, each consisting of a supervisor, editor, four interviewers and a drive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eldwork took place over three months between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ugust and November 2006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Data Processing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Times New Roman"/>
              <a:buChar char="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cessing of da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gan soon after fieldwork (3 weeks) commenced, as completed questionnaires were sent to MICS secretariat at GSS, Accra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Times New Roman"/>
              <a:buChar char="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ally trained GSS personnel, includ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 data entry clerk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entered in the data twice, and monitored the quality of the data collected.4 secondary editing personnel to perform internal consistency check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Times New Roman"/>
              <a:buChar char="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ta captured using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SPr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softwar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Times New Roman"/>
              <a:buChar char="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rly data processing allowed for feedback to teams to prevent problems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Results of the household and individual interview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6840" y="1643040"/>
            <a:ext cx="582948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Households Selected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Households Occupie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Households interviewe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Constantia"/>
              </a:rPr>
              <a:t>Response rate (%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Eligible Wome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Women interviewe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00000"/>
                </a:solidFill>
                <a:latin typeface="Constantia"/>
              </a:rPr>
              <a:t>Response rate (%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Eligible Me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Men interviewed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00000"/>
                </a:solidFill>
                <a:latin typeface="Constantia"/>
              </a:rPr>
              <a:t>Response rate (%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Eligible children under fiv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Mother/ Caretaker interviewe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00000"/>
                </a:solidFill>
                <a:latin typeface="Constantia"/>
              </a:rPr>
              <a:t>Child response rate (%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0" y="1643040"/>
            <a:ext cx="18288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6,30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6,26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5,939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Constantia"/>
              </a:rPr>
              <a:t>94.8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6,24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5,89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Constantia"/>
              </a:rPr>
              <a:t>94.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1,909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1,74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Constantia"/>
              </a:rPr>
              <a:t>91.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3,545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3,466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Constantia"/>
              </a:rPr>
              <a:t>97.8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Households and Respondents Characteristic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2286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Background characteristics of households and respond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7T19:14:59Z</dcterms:created>
  <dc:creator>tynainguah</dc:creator>
  <dc:description/>
  <dc:language>en-US</dc:language>
  <cp:lastModifiedBy>crasmussen</cp:lastModifiedBy>
  <dcterms:modified xsi:type="dcterms:W3CDTF">2008-07-23T11:23:43Z</dcterms:modified>
  <cp:revision>74</cp:revision>
  <dc:subject/>
  <dc:title>MULTIPLE INDICATOR CLUSTER SURVEY(MICS 2006)</dc:title>
</cp:coreProperties>
</file>