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4E12-A644-4A60-A482-FF05FD3F8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7007-06C3-4634-A881-29E246786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44FA-3ADA-4E6C-9C57-1254E945F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4E34-5D61-41BC-9A0F-68B0AC904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F0BE-CF60-4731-874A-2CDEACEE3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1F09-CC48-446A-BC47-F7A7E037C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019A-FB6B-4C3E-8029-B64416C9A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B9DF-1B96-44AC-87C2-0D0643B0A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B923-19FF-4759-BC6B-89A181598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28DC-A978-4C8F-94AC-9323C2381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E005-45E9-427A-A38D-F8FCF717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B7D5-4F9F-42A2-BE55-82FB864F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E28AD-E14B-46E7-8AE2-1093774A37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979640" y="765000"/>
            <a:ext cx="4967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MICS </a:t>
            </a:r>
            <a:r>
              <a:rPr b="0" lang="en-US" sz="3600" spc="-1" strike="noStrike">
                <a:solidFill>
                  <a:srgbClr val="ffff99"/>
                </a:solidFill>
                <a:latin typeface="Times New Roman"/>
              </a:rPr>
              <a:t>DISSEMINATION MATERI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9T12:40:27Z</dcterms:created>
  <dc:creator/>
  <dc:description/>
  <dc:language>en-US</dc:language>
  <cp:lastModifiedBy>HP Authorized Customer</cp:lastModifiedBy>
  <dcterms:modified xsi:type="dcterms:W3CDTF">2009-01-27T15:57:35Z</dcterms:modified>
  <cp:revision>461</cp:revision>
  <dc:subject/>
  <dc:title>Slide 1</dc:title>
</cp:coreProperties>
</file>