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2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07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2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07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42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07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42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07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458640" y="6264360"/>
          <a:ext cx="1217880" cy="36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640" y="6264360"/>
                    <a:ext cx="12178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41148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315200" y="6248520"/>
            <a:ext cx="1523880" cy="36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58640" y="6264360"/>
          <a:ext cx="121788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" y="6264360"/>
                    <a:ext cx="12178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ant and Child Mort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4419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Indicator Cluster Surveys- MICS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and Report Writing Worksh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ama City, July 12-20, 200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haracteristics of the “Brass” method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2360" y="2050920"/>
            <a:ext cx="7396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re short and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ceptable mortality estimates over a period of 10 years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estimat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 patterns of child mor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of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61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The “Brass” equation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s was the first to develop a procedure for converting proportion dead of children ever born (D(i)) reported by women in age groups 15-19, 20-24, et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estimates of probability of dying before attaining certain exact childhood ag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(x) = K(i)*D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the multiplier K(i) is meant to adjust for non mortality factors determining the value of D(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1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What does the “Brass” method do?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396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ass found that the relation between the proportion of children dead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(i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 a life-table mortality measure,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q(x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is primarily influenced by the age pattern of fertility, because it is this pattern that determines the distribution of the children of a group of women by length of exposure to the risk of dy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ass developed a set of multipliers to convert observed values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(i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o estimates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q(x)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ultipliers being selected according to the value o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P(1)/P(2)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(i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the average parity or number of children ever born reported by women in the age group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ass used a third-degree polynomial of fixed sha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513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What does the “Brass” method do?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2360" y="2050920"/>
            <a:ext cx="7396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s estimated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(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ultipliers by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ird-degree polynomial of fixed shape but variable age location to represent fertil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t system generated by the general standard to provide the mortality element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owth rate of 2% per annum to generate a stable age distributions for fem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74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Modifications of the “Brass” method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38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livan computed another set of multipliers using LSR to fit the equation to data generated from observed fertility schedules and the Coale-Demeny lif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sel estimates a third set of multipliers by the same means but using data generated from the model fertility schedules developed by Coale and Trus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ney developed an estimation procedure to establish the set of years to which infant mortality estimated from data on children ever born and children surviving 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Assumptions of the “Brass” method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3200" y="2125800"/>
            <a:ext cx="694692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ant patterns and level of mortality have prevailed in the recent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tility has been roughly constant in the recent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mortality has been changing in a linear way in the recent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Model age patterns of child mortality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across human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fe-tables. Single parameter (level) for different 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le-Demeny patterns by reg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East, North, South, and We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Nations patterns by reg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atin America, Chilean, South Asian, Far Eastern, and General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9144000" cy="2427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hoice of inappropriate age pattern of mortality results in...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33200" y="2271240"/>
            <a:ext cx="69469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sestimation of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5q0 estimate obtained from women 30-34 and referred to about 6 years before the survey is little aff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Indicators’ Definition</a:t>
            </a: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248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-five mortality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ility of dying by exact age 5 ye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ant mortality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ility of dying by exact age 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The Age Pattern of Mortality in Childhood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lect a mortality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v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al prox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ST model appears to be the more common age pattern of mortality in th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The Age Pattern of Mortality in Childhood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6553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lect a mortality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v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al prox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5080" y="46656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Mortality pattern in the LAC countries</a:t>
            </a:r>
            <a:r>
              <a:rPr b="0" lang="en-US" sz="41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untr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ife t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(Eas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can Re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y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(South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a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i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idad and Toba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(Wes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ngoli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99ff"/>
                </a:solidFill>
                <a:latin typeface="Arial"/>
              </a:rPr>
              <a:t>Methodology for calculation</a:t>
            </a:r>
            <a:endParaRPr b="1" lang="en-US" sz="41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 program to produce tables for preliminary and final MICS3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PAK program to produce estimates when data set is not available but basic data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99ff"/>
                </a:solidFill>
                <a:latin typeface="Arial"/>
              </a:rPr>
              <a:t>SPSS Program</a:t>
            </a:r>
            <a:endParaRPr b="1" lang="en-US" sz="41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basic tables (CM.1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R and U5MR total and by   background variables (CM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assu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a pattern from the Coale and Demeny families (i.e. East, West, North, or Sou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age groups used to produce the mortality estimates included in table 8 (20-24, 25-29, 30-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have to be done before running the SPSS progra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1189080"/>
            <a:ext cx="69343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1174680"/>
            <a:ext cx="69339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Fertility and Mortality values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1905120"/>
          <a:ext cx="7620120" cy="3962160"/>
        </p:xfrm>
        <a:graphic>
          <a:graphicData uri="http://schemas.openxmlformats.org/drawingml/2006/table">
            <a:tbl>
              <a:tblPr/>
              <a:tblGrid>
                <a:gridCol w="2590920"/>
                <a:gridCol w="2489040"/>
                <a:gridCol w="254016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5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y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i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go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Goals 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 Submit for Children (W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1990 and the year 2000, reduction of infant and under-five child mortality rate by one third or to 50 and 70 per 1000 live births respectively, whichever is 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lennium Development Goals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duce by two-thirds, between 1990 and 2015,  under-five morta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ator 13 – Under-5 Mortality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ator 14 – Infant Mortality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Disaggregation of estimates by background variables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chotomous variables as much as possible: boys/girls, urban/rural, mothers with education/without education, poorest 60%/richest 40%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4 groups for region and ethni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of sampling errors when reporting current differences or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Issues for Discussion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ggregation of estimates by backgroun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381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ichotomous variables (poorest 60%/richest 40%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381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are of sampling err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between household survey estimates and those from administrative records and vital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estimates produced by the inter-agency mortality estima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Are we measuring the same?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research indicat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vidences of mis-reporting and/or omission of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The inter-agency mortality estimation group</a:t>
            </a:r>
            <a:endParaRPr b="1" lang="en-US" sz="3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at the global level by UNICEF, WHO, the WB, the UN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country estimates of U5MR and IMR and trends from all available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are obtained by a regression model fitted to all availab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are yearly presented as part of the agencies’ yearly publication and as part of the MD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8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8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8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8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8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Why to measure child mortality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s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q0 is a broad indicator of social development/healt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valu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mpact of interventions based on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14520" y="0"/>
            <a:ext cx="5648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MORTPAK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developed by the UN  Statistics/Population(?)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many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lity estimation via the Brass approach is one of th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inputs and decisions from u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for year and month of survey, and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region fro C &amp; D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results and decision on age groups to be used (20-24, 25-29, 30-34 or aver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6560" y="0"/>
            <a:ext cx="53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Data sources/methods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0680" y="1978200"/>
            <a:ext cx="6573960" cy="38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or prospective sample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rom birth histories as from D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o use “Brass methods” as from MIC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Which countries included this module in MICS3?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out of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ze, Dominican Republic, Guyana, Jamaica, Suriname and Trinidad and Tob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did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go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Which is the approach in MICS3?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estimation using the Brass method to derive values for U5MR and I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ther existing estimates and compare along time to produce trends a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within the existing context and limita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61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The “Brass” approach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eed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women by age (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hildren ever b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hildren dead/alive (surviv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data for surviving mothe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greater in countries affected by HIV/AIDS (prevalence of 5% or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1:54:29Z</dcterms:created>
  <dc:creator>Edilberto Loaiza</dc:creator>
  <dc:description/>
  <dc:language>en-US</dc:language>
  <cp:lastModifiedBy>eloaiza</cp:lastModifiedBy>
  <dcterms:modified xsi:type="dcterms:W3CDTF">2006-07-19T15:38:48Z</dcterms:modified>
  <cp:revision>21</cp:revision>
  <dc:subject>Mortality</dc:subject>
  <dc:title>Presentation for 3rd MICS3 workshop-Mortality</dc:title>
</cp:coreProperties>
</file>